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D01-DBC7-4FB3-BC75-ECC7EC8C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D0C-0E0B-45BE-9E0E-28C2C855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BF5-B13F-45B3-93CB-EB0CD70A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C53-C5DC-42FB-B22C-E53D8A0D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F75-9172-4705-9211-34A7B572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C5F-7DE3-49E2-AA0F-E9C8E1AB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F4D-929D-4A9A-936E-53FBD2B8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491-CA65-4C58-8B5A-C681CF32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68F-BAD0-485A-92B2-EDB6AB40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2DF-86BB-495C-B01F-3A1F4D5F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2DD-CB45-4609-A7BE-8D35C40A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C3B-9754-4C67-833A-8AFBBE59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763D-A185-41EF-82BD-D0C3F62F742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160" y="2819520"/>
            <a:ext cx="635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PLICADA AL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20840" y="380880"/>
            <a:ext cx="42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fiabilidad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64320" y="1219320"/>
            <a:ext cx="225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 - 0.08 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05092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743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2819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2666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036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84400" y="2438280"/>
            <a:ext cx="75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19440" y="3759120"/>
            <a:ext cx="636552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media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media de los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76520" y="1523880"/>
          <a:ext cx="5638680" cy="29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638680" cy="2903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23000" y="380880"/>
            <a:ext cx="421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mperatura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743200"/>
            <a:ext cx="8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6068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6760" y="2209680"/>
            <a:ext cx="589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T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840º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-5.8·10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(T-450)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450ºC &lt; T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550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13372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07160" y="533520"/>
            <a:ext cx="665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centración de Esfuerzos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81520" y="13716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1160" y="1066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3200" y="1676520"/>
            <a:ext cx="47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1600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720" y="2590920"/>
            <a:ext cx="80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0160" y="236232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89548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0160" y="289548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8520" y="396252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9520" y="365760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9520" y="419112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320" y="4952880"/>
            <a:ext cx="7099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: sensibilidad al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factor teórico de concentración de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91280" y="30492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sfuerzos fluctu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838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22096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9092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505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457200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193760"/>
            <a:ext cx="2514600" cy="1359000"/>
          </a:xfrm>
          <a:custGeom>
            <a:avLst/>
            <a:gdLst/>
            <a:ahLst/>
            <a:rect l="l" t="t" r="r" b="b"/>
            <a:pathLst>
              <a:path w="1584" h="856">
                <a:moveTo>
                  <a:pt x="0" y="352"/>
                </a:moveTo>
                <a:cubicBezTo>
                  <a:pt x="48" y="304"/>
                  <a:pt x="96" y="256"/>
                  <a:pt x="144" y="208"/>
                </a:cubicBezTo>
                <a:cubicBezTo>
                  <a:pt x="192" y="160"/>
                  <a:pt x="240" y="96"/>
                  <a:pt x="288" y="64"/>
                </a:cubicBezTo>
                <a:cubicBezTo>
                  <a:pt x="336" y="32"/>
                  <a:pt x="392" y="0"/>
                  <a:pt x="432" y="16"/>
                </a:cubicBezTo>
                <a:cubicBezTo>
                  <a:pt x="472" y="32"/>
                  <a:pt x="504" y="112"/>
                  <a:pt x="528" y="160"/>
                </a:cubicBezTo>
                <a:cubicBezTo>
                  <a:pt x="552" y="208"/>
                  <a:pt x="560" y="256"/>
                  <a:pt x="576" y="304"/>
                </a:cubicBezTo>
                <a:cubicBezTo>
                  <a:pt x="592" y="352"/>
                  <a:pt x="608" y="408"/>
                  <a:pt x="624" y="448"/>
                </a:cubicBezTo>
                <a:cubicBezTo>
                  <a:pt x="640" y="488"/>
                  <a:pt x="656" y="504"/>
                  <a:pt x="672" y="544"/>
                </a:cubicBezTo>
                <a:cubicBezTo>
                  <a:pt x="688" y="584"/>
                  <a:pt x="688" y="640"/>
                  <a:pt x="720" y="688"/>
                </a:cubicBezTo>
                <a:cubicBezTo>
                  <a:pt x="752" y="736"/>
                  <a:pt x="816" y="808"/>
                  <a:pt x="864" y="832"/>
                </a:cubicBezTo>
                <a:cubicBezTo>
                  <a:pt x="912" y="856"/>
                  <a:pt x="968" y="840"/>
                  <a:pt x="1008" y="832"/>
                </a:cubicBezTo>
                <a:cubicBezTo>
                  <a:pt x="1048" y="824"/>
                  <a:pt x="1072" y="832"/>
                  <a:pt x="1104" y="784"/>
                </a:cubicBezTo>
                <a:cubicBezTo>
                  <a:pt x="1136" y="736"/>
                  <a:pt x="1160" y="608"/>
                  <a:pt x="1200" y="544"/>
                </a:cubicBezTo>
                <a:cubicBezTo>
                  <a:pt x="1240" y="480"/>
                  <a:pt x="1312" y="448"/>
                  <a:pt x="1344" y="400"/>
                </a:cubicBezTo>
                <a:cubicBezTo>
                  <a:pt x="1376" y="352"/>
                  <a:pt x="1368" y="304"/>
                  <a:pt x="1392" y="256"/>
                </a:cubicBezTo>
                <a:cubicBezTo>
                  <a:pt x="1416" y="208"/>
                  <a:pt x="1456" y="152"/>
                  <a:pt x="1488" y="112"/>
                </a:cubicBezTo>
                <a:cubicBezTo>
                  <a:pt x="1520" y="72"/>
                  <a:pt x="1552" y="44"/>
                  <a:pt x="1584" y="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946240"/>
            <a:ext cx="2895480" cy="120672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640"/>
                </a:moveTo>
                <a:cubicBezTo>
                  <a:pt x="44" y="560"/>
                  <a:pt x="88" y="480"/>
                  <a:pt x="144" y="400"/>
                </a:cubicBezTo>
                <a:cubicBezTo>
                  <a:pt x="200" y="320"/>
                  <a:pt x="272" y="200"/>
                  <a:pt x="336" y="160"/>
                </a:cubicBezTo>
                <a:cubicBezTo>
                  <a:pt x="400" y="120"/>
                  <a:pt x="464" y="96"/>
                  <a:pt x="528" y="160"/>
                </a:cubicBezTo>
                <a:cubicBezTo>
                  <a:pt x="592" y="224"/>
                  <a:pt x="680" y="464"/>
                  <a:pt x="720" y="544"/>
                </a:cubicBezTo>
                <a:cubicBezTo>
                  <a:pt x="760" y="624"/>
                  <a:pt x="736" y="608"/>
                  <a:pt x="768" y="640"/>
                </a:cubicBezTo>
                <a:cubicBezTo>
                  <a:pt x="800" y="672"/>
                  <a:pt x="872" y="720"/>
                  <a:pt x="912" y="736"/>
                </a:cubicBezTo>
                <a:cubicBezTo>
                  <a:pt x="952" y="752"/>
                  <a:pt x="968" y="760"/>
                  <a:pt x="1008" y="736"/>
                </a:cubicBezTo>
                <a:cubicBezTo>
                  <a:pt x="1048" y="712"/>
                  <a:pt x="1096" y="680"/>
                  <a:pt x="1152" y="592"/>
                </a:cubicBezTo>
                <a:cubicBezTo>
                  <a:pt x="1208" y="504"/>
                  <a:pt x="1296" y="296"/>
                  <a:pt x="1344" y="208"/>
                </a:cubicBezTo>
                <a:cubicBezTo>
                  <a:pt x="1392" y="120"/>
                  <a:pt x="1392" y="96"/>
                  <a:pt x="1440" y="64"/>
                </a:cubicBezTo>
                <a:cubicBezTo>
                  <a:pt x="1488" y="32"/>
                  <a:pt x="1584" y="0"/>
                  <a:pt x="1632" y="16"/>
                </a:cubicBezTo>
                <a:cubicBezTo>
                  <a:pt x="1680" y="32"/>
                  <a:pt x="1696" y="128"/>
                  <a:pt x="1728" y="160"/>
                </a:cubicBezTo>
                <a:cubicBezTo>
                  <a:pt x="1760" y="192"/>
                  <a:pt x="1816" y="200"/>
                  <a:pt x="1824" y="2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4673520"/>
            <a:ext cx="2895480" cy="1473120"/>
          </a:xfrm>
          <a:custGeom>
            <a:avLst/>
            <a:gdLst/>
            <a:ahLst/>
            <a:rect l="l" t="t" r="r" b="b"/>
            <a:pathLst>
              <a:path w="1824" h="928">
                <a:moveTo>
                  <a:pt x="0" y="512"/>
                </a:moveTo>
                <a:cubicBezTo>
                  <a:pt x="8" y="452"/>
                  <a:pt x="16" y="392"/>
                  <a:pt x="48" y="320"/>
                </a:cubicBezTo>
                <a:cubicBezTo>
                  <a:pt x="80" y="248"/>
                  <a:pt x="152" y="96"/>
                  <a:pt x="192" y="80"/>
                </a:cubicBezTo>
                <a:cubicBezTo>
                  <a:pt x="232" y="64"/>
                  <a:pt x="264" y="184"/>
                  <a:pt x="288" y="224"/>
                </a:cubicBezTo>
                <a:cubicBezTo>
                  <a:pt x="312" y="264"/>
                  <a:pt x="304" y="280"/>
                  <a:pt x="336" y="320"/>
                </a:cubicBezTo>
                <a:cubicBezTo>
                  <a:pt x="368" y="360"/>
                  <a:pt x="440" y="472"/>
                  <a:pt x="480" y="464"/>
                </a:cubicBezTo>
                <a:cubicBezTo>
                  <a:pt x="520" y="456"/>
                  <a:pt x="544" y="336"/>
                  <a:pt x="576" y="272"/>
                </a:cubicBezTo>
                <a:cubicBezTo>
                  <a:pt x="608" y="208"/>
                  <a:pt x="640" y="120"/>
                  <a:pt x="672" y="80"/>
                </a:cubicBezTo>
                <a:cubicBezTo>
                  <a:pt x="704" y="40"/>
                  <a:pt x="744" y="24"/>
                  <a:pt x="768" y="32"/>
                </a:cubicBezTo>
                <a:cubicBezTo>
                  <a:pt x="792" y="40"/>
                  <a:pt x="768" y="0"/>
                  <a:pt x="816" y="128"/>
                </a:cubicBezTo>
                <a:cubicBezTo>
                  <a:pt x="864" y="256"/>
                  <a:pt x="992" y="672"/>
                  <a:pt x="1056" y="800"/>
                </a:cubicBezTo>
                <a:cubicBezTo>
                  <a:pt x="1120" y="928"/>
                  <a:pt x="1160" y="904"/>
                  <a:pt x="1200" y="896"/>
                </a:cubicBezTo>
                <a:cubicBezTo>
                  <a:pt x="1240" y="888"/>
                  <a:pt x="1264" y="784"/>
                  <a:pt x="1296" y="752"/>
                </a:cubicBezTo>
                <a:cubicBezTo>
                  <a:pt x="1328" y="720"/>
                  <a:pt x="1368" y="696"/>
                  <a:pt x="1392" y="704"/>
                </a:cubicBezTo>
                <a:cubicBezTo>
                  <a:pt x="1416" y="712"/>
                  <a:pt x="1424" y="768"/>
                  <a:pt x="1440" y="800"/>
                </a:cubicBezTo>
                <a:cubicBezTo>
                  <a:pt x="1456" y="832"/>
                  <a:pt x="1456" y="880"/>
                  <a:pt x="1488" y="896"/>
                </a:cubicBezTo>
                <a:cubicBezTo>
                  <a:pt x="1520" y="912"/>
                  <a:pt x="1600" y="920"/>
                  <a:pt x="1632" y="896"/>
                </a:cubicBezTo>
                <a:cubicBezTo>
                  <a:pt x="1664" y="872"/>
                  <a:pt x="1648" y="880"/>
                  <a:pt x="1680" y="752"/>
                </a:cubicBezTo>
                <a:cubicBezTo>
                  <a:pt x="1712" y="624"/>
                  <a:pt x="1768" y="376"/>
                  <a:pt x="1824" y="1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121932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22096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5053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51055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9907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909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6483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54880" y="1295280"/>
            <a:ext cx="73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1752480"/>
            <a:ext cx="76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160020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5440" y="838080"/>
            <a:ext cx="49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85240" y="1143000"/>
            <a:ext cx="4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990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990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1905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5238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990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523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990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9907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30481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251460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39625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975760" y="3049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S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1371600"/>
            <a:ext cx="6324480" cy="358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057400"/>
            <a:ext cx="1523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2438280"/>
            <a:ext cx="266724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1148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276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3657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886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4191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4191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182880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828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7560" y="1447920"/>
            <a:ext cx="1348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5120" y="1447920"/>
            <a:ext cx="147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In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4197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520" y="3962520"/>
            <a:ext cx="147456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3962520"/>
            <a:ext cx="14166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Al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40" y="1195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5181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00160" y="502920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62480" y="510552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95600" y="30492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Good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8680" y="1252440"/>
            <a:ext cx="0" cy="281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8680" y="4068720"/>
            <a:ext cx="466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8680" y="4068720"/>
            <a:ext cx="0" cy="24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9760" y="531036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79760" y="282564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057400" y="117000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668680" y="1749240"/>
            <a:ext cx="2727360" cy="107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668680" y="1749240"/>
            <a:ext cx="2727360" cy="3560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55800" y="1749600"/>
            <a:ext cx="26402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8680" y="2411280"/>
            <a:ext cx="1847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040" y="174960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6560" y="2411280"/>
            <a:ext cx="0" cy="1657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08240" y="2246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11680" y="20811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08560" y="208116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03680" y="19144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0060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35280" y="232884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48160" y="216360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4112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19320" y="257796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80080" y="282564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32520" y="27432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32520" y="22464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373680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08560" y="38196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47307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71760" y="50626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32200" y="514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44720" y="54770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6640" y="48974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0160" y="448308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53040" y="3902040"/>
            <a:ext cx="87120" cy="84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16560" y="3322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4068720"/>
            <a:ext cx="96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838080"/>
            <a:ext cx="5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2720" y="14176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2720" y="199692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2720" y="24940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52720" y="49798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4360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6412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20026800">
            <a:off x="2671920" y="24667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á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8365400">
            <a:off x="3047400" y="40374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9164600">
            <a:off x="2512800" y="342864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46800">
            <a:off x="1260000" y="2193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44400">
            <a:off x="1009440" y="51120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506760" y="947880"/>
            <a:ext cx="0" cy="281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733920"/>
            <a:ext cx="7561440" cy="2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6760" y="3763800"/>
            <a:ext cx="0" cy="24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17840" y="500544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252108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895480" y="86508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06760" y="1444680"/>
            <a:ext cx="2727360" cy="10764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506760" y="1444320"/>
            <a:ext cx="2727360" cy="35607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94240" y="1444680"/>
            <a:ext cx="2639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1905120"/>
            <a:ext cx="22096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34120" y="144468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1905120"/>
            <a:ext cx="0" cy="18856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42080" y="3763800"/>
            <a:ext cx="96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65400" y="533520"/>
            <a:ext cx="5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11430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16002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286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0800" y="467532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8423000">
            <a:off x="3849840" y="33876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9294800">
            <a:off x="3427920" y="289476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20264400">
            <a:off x="3732840" y="2057040"/>
            <a:ext cx="11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Má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505320" y="1904760"/>
            <a:ext cx="152388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1905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160" y="1905120"/>
            <a:ext cx="60948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505320" y="2895120"/>
            <a:ext cx="160020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286000" y="5029200"/>
            <a:ext cx="1219320" cy="103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05120" y="251460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2057400"/>
            <a:ext cx="3886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205740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2743200"/>
            <a:ext cx="28954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429000"/>
            <a:ext cx="3276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20574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4640" y="243828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20574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73520" y="2438280"/>
            <a:ext cx="43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11960" y="32767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60760" y="21337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60760" y="2819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06120" y="365760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595240" y="3049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Soder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91120" y="121932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34290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4290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816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429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88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866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41840" y="91440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920" y="18288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2057400"/>
            <a:ext cx="25905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599840" y="2057400"/>
            <a:ext cx="25909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20574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142640" y="205740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1120" y="213372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oo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248520" y="2514600"/>
            <a:ext cx="3045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8604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99480" y="40384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219320" y="44956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59160" y="33526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190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81480" y="19051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22860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86400" y="24382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23623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10080" y="21337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25146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28195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28954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05320" y="206676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22096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2057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22860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828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040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16002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1337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15238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191120" y="213372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43434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14800" y="2971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43434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43434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4343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388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66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65520" y="533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2590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91120" y="29718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91120" y="1752480"/>
            <a:ext cx="259056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99840" y="1752480"/>
            <a:ext cx="259092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859160" y="42670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87880" y="60912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1752480"/>
            <a:ext cx="152280" cy="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15238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2971800"/>
            <a:ext cx="220968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962520"/>
            <a:ext cx="380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971440" y="29718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00200" y="2971800"/>
            <a:ext cx="13716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191120" y="2742840"/>
            <a:ext cx="3124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3200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01028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41160" y="2841480"/>
            <a:ext cx="362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86840" y="3124080"/>
            <a:ext cx="38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3581280"/>
            <a:ext cx="0" cy="762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190760" y="3581280"/>
            <a:ext cx="1447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14920" y="3352680"/>
            <a:ext cx="40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7280" y="4267080"/>
            <a:ext cx="4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cuación General de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14600" y="1444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600200"/>
            <a:ext cx="4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7480" y="15508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30440" y="1781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590920"/>
            <a:ext cx="4419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eficiente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3526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eficiente de la “Ignora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bre aspectos no cuantificables mediant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ctor de seguridad: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Fu/F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S/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u: carga máxim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p: carga admisibl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93440" y="304920"/>
            <a:ext cx="33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Teorías no Lin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143000"/>
            <a:ext cx="7086240" cy="3885840"/>
            <a:chOff x="685800" y="1143000"/>
            <a:chExt cx="7086240" cy="3885840"/>
          </a:xfrm>
        </p:grpSpPr>
        <p:sp>
          <p:nvSpPr>
            <p:cNvPr id="456" name=""/>
            <p:cNvSpPr/>
            <p:nvPr/>
          </p:nvSpPr>
          <p:spPr>
            <a:xfrm>
              <a:off x="1458720" y="1143000"/>
              <a:ext cx="0" cy="388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9480" y="2330640"/>
              <a:ext cx="257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58720" y="4273560"/>
              <a:ext cx="438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3956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39560" y="4273560"/>
              <a:ext cx="193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1248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8144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5436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5800" y="1790640"/>
              <a:ext cx="133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58720" y="2330640"/>
              <a:ext cx="5153760" cy="194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58720" y="2330640"/>
              <a:ext cx="5153760" cy="1942920"/>
            </a:xfrm>
            <a:custGeom>
              <a:avLst/>
              <a:gdLst/>
              <a:ahLst/>
              <a:rect l="l" t="t" r="r" b="b"/>
              <a:pathLst>
                <a:path w="1920" h="864">
                  <a:moveTo>
                    <a:pt x="0" y="0"/>
                  </a:moveTo>
                  <a:cubicBezTo>
                    <a:pt x="92" y="12"/>
                    <a:pt x="184" y="24"/>
                    <a:pt x="288" y="48"/>
                  </a:cubicBezTo>
                  <a:cubicBezTo>
                    <a:pt x="392" y="72"/>
                    <a:pt x="504" y="104"/>
                    <a:pt x="624" y="144"/>
                  </a:cubicBezTo>
                  <a:cubicBezTo>
                    <a:pt x="744" y="184"/>
                    <a:pt x="880" y="232"/>
                    <a:pt x="1008" y="288"/>
                  </a:cubicBezTo>
                  <a:cubicBezTo>
                    <a:pt x="1136" y="344"/>
                    <a:pt x="1264" y="408"/>
                    <a:pt x="1392" y="480"/>
                  </a:cubicBezTo>
                  <a:cubicBezTo>
                    <a:pt x="1520" y="552"/>
                    <a:pt x="1688" y="656"/>
                    <a:pt x="1776" y="720"/>
                  </a:cubicBezTo>
                  <a:cubicBezTo>
                    <a:pt x="1864" y="784"/>
                    <a:pt x="1896" y="840"/>
                    <a:pt x="1920" y="86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58720" y="2294280"/>
              <a:ext cx="4380480" cy="1978920"/>
            </a:xfrm>
            <a:custGeom>
              <a:avLst/>
              <a:gdLst/>
              <a:ahLst/>
              <a:rect l="l" t="t" r="r" b="b"/>
              <a:pathLst>
                <a:path w="1632" h="880">
                  <a:moveTo>
                    <a:pt x="0" y="16"/>
                  </a:moveTo>
                  <a:cubicBezTo>
                    <a:pt x="116" y="8"/>
                    <a:pt x="232" y="0"/>
                    <a:pt x="384" y="16"/>
                  </a:cubicBezTo>
                  <a:cubicBezTo>
                    <a:pt x="536" y="32"/>
                    <a:pt x="744" y="24"/>
                    <a:pt x="912" y="112"/>
                  </a:cubicBezTo>
                  <a:cubicBezTo>
                    <a:pt x="1080" y="200"/>
                    <a:pt x="1272" y="416"/>
                    <a:pt x="1392" y="544"/>
                  </a:cubicBezTo>
                  <a:cubicBezTo>
                    <a:pt x="1512" y="672"/>
                    <a:pt x="1592" y="824"/>
                    <a:pt x="1632" y="880"/>
                  </a:cubicBezTo>
                </a:path>
              </a:pathLst>
            </a:custGeom>
            <a:noFill/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58720" y="2330640"/>
              <a:ext cx="5239440" cy="1942920"/>
            </a:xfrm>
            <a:custGeom>
              <a:avLst/>
              <a:gdLst/>
              <a:ahLst/>
              <a:rect l="l" t="t" r="r" b="b"/>
              <a:pathLst>
                <a:path w="1952" h="864">
                  <a:moveTo>
                    <a:pt x="0" y="0"/>
                  </a:moveTo>
                  <a:cubicBezTo>
                    <a:pt x="168" y="16"/>
                    <a:pt x="336" y="32"/>
                    <a:pt x="480" y="48"/>
                  </a:cubicBezTo>
                  <a:cubicBezTo>
                    <a:pt x="624" y="64"/>
                    <a:pt x="728" y="72"/>
                    <a:pt x="864" y="96"/>
                  </a:cubicBezTo>
                  <a:cubicBezTo>
                    <a:pt x="1000" y="120"/>
                    <a:pt x="1152" y="136"/>
                    <a:pt x="1296" y="192"/>
                  </a:cubicBezTo>
                  <a:cubicBezTo>
                    <a:pt x="1440" y="248"/>
                    <a:pt x="1624" y="360"/>
                    <a:pt x="1728" y="432"/>
                  </a:cubicBezTo>
                  <a:cubicBezTo>
                    <a:pt x="1832" y="504"/>
                    <a:pt x="1888" y="552"/>
                    <a:pt x="1920" y="624"/>
                  </a:cubicBezTo>
                  <a:cubicBezTo>
                    <a:pt x="1952" y="696"/>
                    <a:pt x="1920" y="824"/>
                    <a:pt x="1920" y="864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87960" y="2978280"/>
              <a:ext cx="9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ood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78200" y="351792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Bag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34880" y="1683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er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26200" y="211428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Kececiog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231640" y="2761560"/>
              <a:ext cx="257400" cy="32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391200" y="2869920"/>
              <a:ext cx="1030320" cy="75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520080" y="2114280"/>
              <a:ext cx="25740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581440" y="2546280"/>
              <a:ext cx="5155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133720" y="1905120"/>
            <a:ext cx="7617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904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9810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574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1333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2096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2860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3619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4382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905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6668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7432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8191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954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9718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047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8759600">
            <a:off x="1866960" y="1333080"/>
            <a:ext cx="228600" cy="10666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066680"/>
              <a:gd name="textAreaBottom" fmla="*/ 1055520 h 106668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799920" y="2018880"/>
            <a:ext cx="381240" cy="30492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36800" y="3808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2941200">
            <a:off x="1222920" y="1278720"/>
            <a:ext cx="228600" cy="111924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119240"/>
              <a:gd name="textAreaBottom" fmla="*/ 1108080 h 1119240"/>
            </a:gdLst>
            <a:ahLst/>
            <a:rect l="textAreaLeft" t="textAreaTop" r="textAreaRight" b="textAreaBottom"/>
            <a:pathLst>
              <a:path w="21600" h="105623">
                <a:moveTo>
                  <a:pt x="3600" y="0"/>
                </a:moveTo>
                <a:arcTo wR="3600" hR="3600" stAng="16200000" swAng="-5400000"/>
                <a:lnTo>
                  <a:pt x="0" y="102023"/>
                </a:lnTo>
                <a:arcTo wR="3600" hR="3600" stAng="10800000" swAng="-5400000"/>
                <a:lnTo>
                  <a:pt x="18000" y="105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23623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00200" y="144792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228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04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80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57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3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09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85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61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914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990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066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143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218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295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447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523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00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676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752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28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904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057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133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209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286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361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438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14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590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666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743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819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95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971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047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124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920" y="21337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895480" y="21337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09480" y="2971440"/>
            <a:ext cx="533160" cy="990360"/>
            <a:chOff x="609480" y="2971440"/>
            <a:chExt cx="533160" cy="990360"/>
          </a:xfrm>
        </p:grpSpPr>
        <p:sp>
          <p:nvSpPr>
            <p:cNvPr id="551" name=""/>
            <p:cNvSpPr/>
            <p:nvPr/>
          </p:nvSpPr>
          <p:spPr>
            <a:xfrm>
              <a:off x="742320" y="297180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9480" y="3113280"/>
              <a:ext cx="533160" cy="7070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2320" y="382032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480" y="3395880"/>
              <a:ext cx="533160" cy="141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42320" y="297144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2320" y="297180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2320" y="381996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2320" y="382032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H="1">
            <a:off x="1143000" y="3429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1905120"/>
            <a:ext cx="609480" cy="6094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2666880"/>
            <a:ext cx="1600200" cy="16002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816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936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4495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58672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65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76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00200" y="59436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1192320"/>
            <a:ext cx="21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M 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máx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480 N ·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19177200">
            <a:off x="1641600" y="25538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160020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Acero UNS G10350 Trat. Térmico y estirado a 650ºC, acabado 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3400" y="2438280"/>
            <a:ext cx="36576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Confiabilidad =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Factor Conc esfuerzo = 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ys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e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Sin considerar to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95680" y="4952880"/>
            <a:ext cx="4648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5867280"/>
            <a:ext cx="4648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/ 1.3 =  328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/ 1.1 = 570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990720" y="1295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carga está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89280" y="2535120"/>
            <a:ext cx="35208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flexión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99960" y="2209680"/>
            <a:ext cx="90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05880" y="28195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34800" y="3452760"/>
            <a:ext cx="15980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= 4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/ c =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3505320"/>
            <a:ext cx="152640" cy="99036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8098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031720" y="3733920"/>
            <a:ext cx="14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31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27432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9072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Fati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09680" y="144792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2057400"/>
            <a:ext cx="807732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erminación superficial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amaño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1.189 ·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-0.097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fiabilidad (95%)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centración de  Esfuerzo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q = 0.84 (r = 3 mm;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+(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-1)=1+(1.6-1)=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 /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6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Límite Indurancia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`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5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313.5 MP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4952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74·0.8·0.868·0.665·313.5 = 107.4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54864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(min)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7.4 / 1.8 = 59.7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009160" y="40644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10080" y="228600"/>
            <a:ext cx="217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/2)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8680" y="685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57600" y="685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85480" y="152388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88200" y="134604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480/2) ·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74640" y="1803240"/>
            <a:ext cx="7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33920" y="180324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7680" y="1530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1200" y="1371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9960" y="18288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05720" y="1828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56720" y="2260440"/>
            <a:ext cx="169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340344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56134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81280" y="561348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56134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1320" y="591804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5120" y="180324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91320" y="5613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987480" y="187920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78468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34797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5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90720" y="3784680"/>
            <a:ext cx="518148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990720" y="2565000"/>
            <a:ext cx="76176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93696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990720" y="3936960"/>
            <a:ext cx="457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80" y="3659040"/>
            <a:ext cx="88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8400" y="568944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271764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363204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098880"/>
            <a:ext cx="1082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92920" y="309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97480" y="30988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24280" y="3022560"/>
            <a:ext cx="3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920" y="3022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09200" y="340344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4 · 10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0080" y="3479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3098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30988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08600" y="309888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44.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974680" y="3808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tiga en 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33720" y="1295280"/>
            <a:ext cx="58672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sfuerzo cortante máxi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nergía de distors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2743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71800" y="49528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627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672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14600" y="3200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71800" y="358128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68560" y="2438280"/>
            <a:ext cx="3240" cy="251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358128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19720" y="3581280"/>
            <a:ext cx="11430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4680" y="464832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5276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51160" y="336384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48120" y="3300480"/>
            <a:ext cx="5868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7760" y="339408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240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10040" y="320508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26000" y="356724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30640" y="344160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76840" y="34416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78360" y="356724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3920" y="304812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3809880"/>
            <a:ext cx="5868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54280" y="333216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98880" y="3079800"/>
            <a:ext cx="5724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71800" y="39625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3962520"/>
            <a:ext cx="0" cy="990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828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4876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975040" y="38088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Cargas combi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65480" y="1447920"/>
            <a:ext cx="4078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1496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16960" y="2286000"/>
            <a:ext cx="3857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233532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91440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s Von Mi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98040" y="29718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tado de Esfuerzos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33720" y="3657600"/>
            <a:ext cx="624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m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09680" y="4495680"/>
            <a:ext cx="5943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733920"/>
            <a:ext cx="472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00400" y="45720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0"/>
            <a:ext cx="85341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RITERIOS DE FALLA DE LOS MATERAILES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(Carga est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Normal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523880"/>
            <a:ext cx="207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4360" y="2027160"/>
            <a:ext cx="601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Fluenci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14720" y="2666880"/>
            <a:ext cx="602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Ruptur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657600"/>
            <a:ext cx="695016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Cortante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de la Energía de Dis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tr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Coulomb-Mohr (Materiales Frág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 -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 =</a:t>
            </a:r>
            <a:r>
              <a:rPr b="0" i="1" lang="es-CL" sz="5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 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Concentración de T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1520" y="2575080"/>
            <a:ext cx="2946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5400" y="4495680"/>
            <a:ext cx="2946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5200" y="3306600"/>
            <a:ext cx="758880" cy="365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96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777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462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143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828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509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194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875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55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241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940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622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30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9988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16692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354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10360" y="4488480"/>
            <a:ext cx="2526120" cy="379440"/>
            <a:chOff x="810360" y="4488480"/>
            <a:chExt cx="2526120" cy="379440"/>
          </a:xfrm>
        </p:grpSpPr>
        <p:sp>
          <p:nvSpPr>
            <p:cNvPr id="77" name=""/>
            <p:cNvSpPr/>
            <p:nvPr/>
          </p:nvSpPr>
          <p:spPr>
            <a:xfrm>
              <a:off x="3335760" y="44884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67640" y="44895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99520" y="44906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0680" y="44913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2560" y="44924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4440" y="449316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5600" y="44942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57480" y="44953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360" y="44960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0520" y="44971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52400" y="44982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84280" y="449892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15440" y="45000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7320" y="45007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8840" y="450180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360" y="45028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4920" y="3489480"/>
            <a:ext cx="412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3520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6672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9860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3048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200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938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2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72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88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49408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66220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3068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9880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16692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401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6720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5035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3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3040" y="12952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43120" y="4861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8600" y="284940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94080" y="2849400"/>
            <a:ext cx="20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0960" y="2849400"/>
            <a:ext cx="0" cy="640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35200" y="3489480"/>
            <a:ext cx="0" cy="54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94080" y="348948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5200" y="3946680"/>
            <a:ext cx="758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0880" y="3951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9360" y="2849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1800" y="2941560"/>
            <a:ext cx="0" cy="365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071800" y="367164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1828800"/>
            <a:ext cx="89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3640" y="1908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9000" y="1830240"/>
            <a:ext cx="588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7280" y="19098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(1+2b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4880" y="297180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Cuando a=b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505320"/>
            <a:ext cx="968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960" y="3583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4960" y="3505320"/>
            <a:ext cx="817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ISEÑO A FATI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62840" y="136044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8080" y="1893960"/>
            <a:ext cx="41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orj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2427120"/>
            <a:ext cx="22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1760" y="2386080"/>
            <a:ext cx="261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60504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undi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03880" y="4408560"/>
            <a:ext cx="247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4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75080" y="4367160"/>
            <a:ext cx="241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79840" y="299556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7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7960" y="2954160"/>
            <a:ext cx="251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7560" y="497664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275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14960" y="4935600"/>
            <a:ext cx="231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4120" y="533520"/>
            <a:ext cx="83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Elementos de Má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60020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 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8360" y="2971800"/>
            <a:ext cx="4395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rmina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85280" y="533520"/>
            <a:ext cx="58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rminación Superficial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000" y="2133720"/>
            <a:ext cx="8428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Rangos de rugosidad (terminación superficial) por tip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actores experimentales en función de la rugosida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y de la resistencia a la tracción del material para cad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 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99320" y="533520"/>
            <a:ext cx="348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amaño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828800"/>
            <a:ext cx="5958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Kb en función del diámetro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19520"/>
            <a:ext cx="691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no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rectangular (en función de a,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canal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doble T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707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15:08:28Z</dcterms:created>
  <dc:creator>ROBERTO CORVALAN PAIVA</dc:creator>
  <dc:description/>
  <dc:language>en-US</dc:language>
  <cp:lastModifiedBy>Roberto Corvalán Paiva</cp:lastModifiedBy>
  <dcterms:modified xsi:type="dcterms:W3CDTF">2002-08-13T11:40:55Z</dcterms:modified>
  <cp:revision>37</cp:revision>
  <dc:subject/>
  <dc:title>Sin título de diapositiva</dc:title>
</cp:coreProperties>
</file>